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5.pct" ContentType="image/x-pict"/>
  <Override PartName="/ppt/media/image8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8ADB-8698-4402-A856-76F853610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54B7-DCD8-45E5-8FB3-CF34E8C3B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0CD4-8ADC-403E-A2F2-67E94151D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3247-23E5-47F1-97A0-D46EC08B1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891C-8B8B-47FA-AFD7-80BCBACA3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t participants so there are secondary people at each table mixed with the element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0F0A-1E85-4553-AE29-7340ADFBA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64E1-5798-4C6F-BC79-15E5F8EE9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 that your parallel task here assume at least grade 9 comf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2EB7-A4AF-4BA6-AEFA-095422330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3F62-C699-4572-A288-F6BBFD25E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707C-47CA-4012-8152-052D5B483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33CE-0ED0-4344-8D04-BCB34C05B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97F5-DD7F-49C9-807E-074275555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795A-B8E7-4536-BE1F-D9BE9BD41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855B-5D6C-4B4E-8B33-8022F3D15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04F1-83C8-4D76-95D1-64217760D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2F5A-10DB-4683-9C59-32A5EAA8D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1A9F-B2A5-4DF1-9D2F-9CFA991FA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C173-D47E-47D0-817C-AF405E69F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809E-4B81-412F-902F-1D2A30194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3FCA-548C-48F2-A13F-AA1ECE42F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7AE6-FFCD-486E-A123-47C353F02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0CB8-F189-4411-9953-E77FE3293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91E3-DD85-4B4D-8F57-4C4A43F31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at tables and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3C06-4107-454B-8A7D-81C5B0EB7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760E-D85C-448B-A83D-F33C0232D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4CEA-6371-446A-954A-A21948CE1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EA27-FAAF-4994-AC9A-ADBA88974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6E79-8FE4-4E0D-A99D-20E336B35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C2EF-B705-4D19-8781-9446555EA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AA01-325F-47C5-92DC-BEE918584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5BFB-DEDA-4CBA-A587-A579A1315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F753-5A0F-4185-A5A2-2CE57CFAB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78E8-F254-4B13-99A6-17F1A23C2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F58D-D3B8-4BAF-8985-E52984C43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D8C2-0E5E-4A83-976E-745B369D5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361B-9A38-4BD4-B650-183478D41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 this might be tough for some participants. Remind them what the quadratic formula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0F97-EE63-42E9-AB5F-CABBCCE2A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5EE0-6052-488F-B3DC-0C5C4D7EC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3F6B-2A76-45FC-9FFE-7E380407D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9E59-3F1B-45DD-8300-5900B2747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B407-4411-41C6-B830-692C0BBD5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08DA-C540-4DAE-A34F-0B3C8B2D6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28E1-3EF3-465F-93B9-1B79634E0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9B68-C06B-404F-9DA0-70E05E08A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y = 4x – 4 or y =  4(x-2)^2 + 4 or y = 2x^3 -8x^2 +6x +8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E75E-2956-40B7-9CD6-103F99DF4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867E-CA5F-4FCF-B0FC-909010EED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9116-9CCA-4561-8EED-F0A03223F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8779-806C-4767-9C68-157C21ADE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BFA2-3B78-4CD3-82F2-CB19D5316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7102-3A49-4069-84CE-46AAEE135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D6ED-297A-48ED-A9E2-87D044B0A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E198-8C4F-4B28-BD9F-BBC1FC06D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49CC-EA09-447E-B86D-3D9F3AEBA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D7DA-E4D5-4C8E-886B-B24C84196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E56B-C92F-429A-8037-4D193693F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90C0-95C9-4037-808D-2BFA093B5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B4D2-62FD-4F12-A342-608B99E09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6809-8B6D-403F-B7B2-679990997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D55D-575A-41B1-BEA8-73CF279C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F66-8668-4DAA-A31F-F783CF35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036E-8BF8-451C-BC43-0AAAF18F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BE93-90C2-4562-8C4C-2A4AC945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03EF-A3D4-437D-95B6-6AD18DF6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7D40-0EEF-426C-AAFC-ECAD1364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226E-5662-4011-B909-EA8DC24B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3CA7-2487-4E91-A16F-F94A35AE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2784-E758-47ED-978B-03441409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FD7A-5921-4607-B578-8B07CCC6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1ED3-D8EB-4791-908F-B64ED7CB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631E-FDE4-4A6B-A8AC-91CDAD04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A88D-33DD-4EF2-B653-E6B35EC7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0596-694E-4D4A-835E-AB086D86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AD39-52A7-4EAD-8E81-BB6619E2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F5E7-9645-4E8D-8CA7-9C49A297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59C6-417D-49E4-8B50-A627D1045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E12-6E83-4C57-AF4A-7A91F6ED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36E-885F-4DC5-85AC-E62D0088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0998-6951-495A-962A-6409A3CB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46DF-9A28-4BE8-A750-EFCEE42A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327-B69E-45B7-84BA-8613A1C4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1D8D-03D0-41E5-B052-A63CEA5F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3C2-0D26-4823-A597-22A3C8AB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B03D-EF68-45C3-A5A0-54B07B5270A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85ED-CFF6-4E5C-91C8-DCD9784DB43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there are giant missing prerequisites that will get in the 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B85D-9B9E-41F9-AF28-AF4F32DF5A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your students already know what you were planning to tea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4D15-573F-4373-90D5-48FD3D2283A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55600" y="990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mparing parallel tasks and 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F35F-42B7-4997-AFD3-6508C12264F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ook at this pair of parallel tasks. Choose one and try it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4A7A-CBAC-4BCE-A035-0BA9FEE9155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838080"/>
            <a:ext cx="4190760" cy="77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ennifer drew a graph of         y = 2x – 8. She said there was no more work to do to draw a graph of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What might she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4648320" y="838080"/>
            <a:ext cx="4190760" cy="77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ennifer drew a graph of         y = 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8. She said there was no more work to do to draw a graph of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What might she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352680" y="4648320"/>
          <a:ext cx="5335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648320"/>
                    <a:ext cx="5335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696080" y="4572000"/>
          <a:ext cx="67320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4572000"/>
                    <a:ext cx="6732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Picture 1.png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4"/>
          <p:cNvSpPr/>
          <p:nvPr/>
        </p:nvSpPr>
        <p:spPr>
          <a:xfrm flipV="1">
            <a:off x="838080" y="1142640"/>
            <a:ext cx="7696440" cy="4419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Picture 4.png"/>
          <p:cNvPicPr/>
          <p:nvPr/>
        </p:nvPicPr>
        <p:blipFill>
          <a:blip r:embed="rId1"/>
          <a:stretch/>
        </p:blipFill>
        <p:spPr>
          <a:xfrm>
            <a:off x="0" y="830160"/>
            <a:ext cx="9144000" cy="5197680"/>
          </a:xfrm>
          <a:prstGeom prst="rect">
            <a:avLst/>
          </a:prstGeom>
          <a:ln w="0">
            <a:noFill/>
          </a:ln>
        </p:spPr>
      </p:pic>
      <p:sp>
        <p:nvSpPr>
          <p:cNvPr id="134" name="Straight Connector 6"/>
          <p:cNvSpPr/>
          <p:nvPr/>
        </p:nvSpPr>
        <p:spPr>
          <a:xfrm flipV="1">
            <a:off x="457200" y="1752120"/>
            <a:ext cx="7010280" cy="4038840"/>
          </a:xfrm>
          <a:prstGeom prst="line">
            <a:avLst/>
          </a:prstGeom>
          <a:ln w="255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32BF-4A83-4337-9476-8CD8066B7C6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143000" y="243828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would the original graph look like? How do you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would the second graph look like? How do you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509C-8044-4895-B695-F2F70322B10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143000" y="243828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do you think Jennifer meant when she said there was no more work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you think she was r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59AF-CC63-4473-BF92-E7A23C5E075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143000" y="243828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big idea was implicit in both of the parallel tas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F7FA-D450-44F9-92B4-5A8748579D6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Picture 1.png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415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2122-6EE9-4A08-A9CA-6D2477F5326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1905120"/>
            <a:ext cx="731520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th a partner, reframe the two parallel tasks into a single open ques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ce you do, decide if you think the parallel tasks or the open question might be better to use and wh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FCFF-9BF7-4DD7-A0E2-373AF5E999E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s can work in all three parts of a three-part less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ere to use 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6B12-C45D-438D-AEB2-8076C192671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example, a minds-on open question might be: Create two linear growing patterns that you think are really simi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EFE2-FD49-4C7D-97BC-5D108B11A2A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066680" y="2057400"/>
            <a:ext cx="73152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could as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kes them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ir pattern rules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3AE9-266E-415E-B6FF-CF20FA46DE8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066680" y="2057400"/>
            <a:ext cx="73152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ight such a question be effective in diagnosing student differ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you see it more as exposing or evoking thin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AE65-DF24-4EA4-8343-E75AD71AB5B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lesson on inequaliti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eate a mathematical statement where any number greater than 10 is a possible solu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me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D585-2396-4F76-A087-296CA10416F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066680" y="2057400"/>
            <a:ext cx="73152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lesson on quadratic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two graphs do you think are alike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-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me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A06C-7761-4660-9143-AC75C9ED293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would you open up this question (or is it open now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ll in the missing valu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43000" y="4572000"/>
          <a:ext cx="6095880" cy="115884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267B-6909-4979-B34E-69B3C95D2D7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r the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0107-0E93-4C11-8826-0BAAE5C16CE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1676520"/>
            <a:ext cx="7315200" cy="74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oose two different values for the missing amounts. Make them different kinds of numbers:    3x –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4 +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raw a diagram that would help someone understand how to solve your equ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 Ope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990720" y="1981080"/>
            <a:ext cx="304776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be relation… sort of like this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AE6B-4E3F-4FD3-908C-5C93249A041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105520" y="1905120"/>
            <a:ext cx="304776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ype of relation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5602-CA42-424F-8EEB-2C84C0854AA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66680" y="2057400"/>
            <a:ext cx="73152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this activity help the strugg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it help the strong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th is lear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 Ope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40CF-AD77-4D96-A1F2-8339FE678F1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2057400"/>
            <a:ext cx="731520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strategy do you think  I used to make this question o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it a strategy that could be used in other situ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 Ope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82B8-04CC-449A-A2B1-9723BFB91EE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2057400"/>
            <a:ext cx="73152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linear growing pattern has 50 as the 2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. Create a bunch of possible patter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does where your pattern starts relate to how fast it gro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3890-8489-4C9A-8EC5-BDE19362D8A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wo lines intersect at (1,3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is much steeper than the ot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ould the pair of lines be? Give several possibiliti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BF75-A73F-4F37-A1FE-79241E3A26C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066680" y="2057400"/>
            <a:ext cx="73152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pare the roots of these three equations. What do you notice? Why does it hap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17x + 4 = 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37x + 6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8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65x + 8 = 0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5791320" y="4191120"/>
            <a:ext cx="312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Add another question that works the sa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7CB3-BFE2-40ED-B03F-3BE9306F375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n you make up other sets of quadratic equations that have something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6DE2-5C65-4793-8534-7200ED50CB7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trig function goes through the point (π,7). What could it be? List a bunch of possibiliti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9B3D-AE36-4661-851D-C9904EDFAFB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ombination of $2 coins and $5 bills have a total value of $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ABA3-BAF5-40CD-A91A-D79186219F9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066680" y="2057400"/>
            <a:ext cx="73152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s are also very appropriate for consolid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B4FB-1E3D-4066-A461-E2ECFBE2532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agine that students have learned how to solve linear equations, e.g. 4x – 2 = 9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 underlyin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which big idea do you think this question might relat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D91F-A00B-43C6-A5DB-6EED5148A21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FE6D-8F2F-43AA-B80C-527E13610C4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thout solving this equation, how do you know that the solution has to be posi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4x + 7 = -5x +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8B1A-6513-46E4-B2B2-3E79C9E49E3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066680" y="2057400"/>
            <a:ext cx="73152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se equations alike and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 – 6x -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r 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8581-62C1-4165-8816-249D2D5BEFE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agine that students have learned the quadratic formula for solving quadratic equ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2622-A988-406B-9422-CF3CD00B01A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sides the solutions to    a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bx + c = 0, what else does the quadratic formula tell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Picture 1.png"/>
          <p:cNvPicPr/>
          <p:nvPr/>
        </p:nvPicPr>
        <p:blipFill>
          <a:blip r:embed="rId1"/>
          <a:stretch/>
        </p:blipFill>
        <p:spPr>
          <a:xfrm>
            <a:off x="4038480" y="4038480"/>
            <a:ext cx="3314880" cy="112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AD57-6A98-4B22-AF17-3BCA95BB309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is solving a quadratic equation like solving a linear one? How is it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48AE-7413-47A5-8934-4CA4281DDA5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parabola is very narrow and one parabola is very wi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n you be sure about anything about how their equations diff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910A-8E02-4884-B12B-5A504272E48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066680" y="2057400"/>
            <a:ext cx="7315200" cy="62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lesson on trigonometric func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must graph a trig function. In what situation might you want a y-axis going from -100 to 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me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4087-7D27-412A-9E0C-7E7B26DC4AF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066680" y="2057400"/>
            <a:ext cx="731520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eate an open consolidation question that you might use having taught students a lesson about how to solve equations of the for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x +b = cx + d  (e.g. 2x – 4 =3x +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0086-0166-4A51-A8B1-389E41951DA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ten you can start from an existing lesson and open parts of it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tarting from a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018B-FE04-4E61-86F7-D6718D4DDEF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066680" y="2057400"/>
            <a:ext cx="73152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strategy is to start with an answer and create a question. For example, a  growing pattern has 20 as the 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. What could the pattern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90720" y="220968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p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escribe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lation the graph repres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940F-8545-457B-9A68-E0ECA0F8487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56AA-A556-4197-955D-5B63B81894B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066680" y="2057400"/>
            <a:ext cx="73152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ask for similarities and differences. For example, how is factoring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5x+6 like and different from factoring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2x –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8EED-69E6-48DF-A84F-7778946E45A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let the student choose values. For example, ask students to choose values for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graph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+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1ECD-CD36-4738-A655-7544CC5228F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rom the other examples we have seen, you can see that these are not the only three strategies but they are help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ther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DB91-3A44-4AF9-8847-6D386B5161E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143000" y="2438280"/>
            <a:ext cx="73152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w you t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th a partner, choose a less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own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4B2E-4C33-4E61-8BCF-DBBA937943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143000" y="2438280"/>
            <a:ext cx="7315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n u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minds-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cti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nsolidat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own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1439-EEC3-4E3F-8D12-6C3AB80FC29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143000" y="2438280"/>
            <a:ext cx="73152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teract with others at your tab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lect one minds-on, one action, and one consolidate ques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st in the right sp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hare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D890-BCC6-41AD-8CB6-A32BDA7949B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143000" y="2438280"/>
            <a:ext cx="7315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nk about why you might use an open question in each part of the lesson. Would your reasons be the s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cuss this in your gr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60A4-A300-46DD-95F4-B4D5A590C49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143000" y="2438280"/>
            <a:ext cx="7315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ssessment for learning is your foc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open question should be accessible to virtually any stud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pen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02A5-0BCB-4408-A6A4-E7727F4643A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143000" y="2438280"/>
            <a:ext cx="7315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is really an unscaffolded investigation, whether large or sm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udents who need scaffolding receive it, but not everyone needs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pe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147D-05D4-469B-ACD0-93F89426CAA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143000" y="2438280"/>
            <a:ext cx="7315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had a lesson goal tied to a big idea. Did I achieve my lesson go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y opening it up, I continue to allow for exposure of student thin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pen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1066680" y="22096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 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in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e the equa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9E19-AE08-4D53-8991-7F4FC224F1D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made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de the first question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A67F-2578-4D43-B917-493DFEB6F08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990720" y="2057400"/>
            <a:ext cx="25146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Write an equation and solv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BE23-980D-464C-A2C1-63CFC3717C7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952880" y="1981080"/>
            <a:ext cx="34290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Solve 3x-2 = 8. Describe your strate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55600" y="99072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sing open questions for assessment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open question, as a minds-on activity, provides valuable info about how to proceed with your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05C8-DDA4-4C4C-98FB-140376CD4EB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09:58Z</dcterms:created>
  <dc:creator>PSteele</dc:creator>
  <dc:description/>
  <dc:language>en-US</dc:language>
  <cp:lastModifiedBy>Marian Small</cp:lastModifiedBy>
  <dcterms:modified xsi:type="dcterms:W3CDTF">2009-08-20T15:28:23Z</dcterms:modified>
  <cp:revision>319</cp:revision>
  <dc:subject/>
  <dc:title>Slide 1</dc:title>
</cp:coreProperties>
</file>